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1E5E-986A-48CC-944D-6E920A51D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4D29-86E5-4784-A4AE-DA03AE6D6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4B86-927F-4616-AC07-F688C6E95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BE3F-C66E-4B73-9DC0-682849A38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3D994-57AF-4233-95A9-A3ACEFD6C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4A93C-5E24-42B0-A0FF-8FD4CE7ED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6E262-CA7C-4786-80A7-2C95D5A75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EA189-CA7A-4DB1-91F9-0F7F45A4F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53107-6D9E-4270-85C4-E97626D1D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CB4CA-CA8A-46B8-8C1C-61D467DF0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67274-51D5-4F8F-8CCE-16A8E45B1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31ED-3884-43B9-97E8-F7A8C9E25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013D6-FAAA-41F8-A54F-9ADBB718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6DCD6-DA4C-4FA2-9298-69632EE0E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DB5E9-4494-4B6C-AA6C-7ACF63B61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983C5-B8C5-4B37-911E-184C65AEA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0587D-BB08-4144-B89F-B964336F8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ED7B-8272-461F-BB89-69597CB61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8969-7002-4B74-BB30-280D6D07A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6978-F455-4433-B656-1E678B1B0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9353-6320-45BC-9E4B-4E267AAF8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8B94-04A3-46EA-BB6E-C7F9193D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76FE-61B9-4BA5-8CFB-53D5D02A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8057-8D90-43C6-A23A-60872C7C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7B200-B96E-40AC-95C2-A695E279B0A9}" type="slidenum">
              <a:rPr b="0" lang="ro-RO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648FA-0593-4DBF-AA87-4193FFAB939D}" type="slidenum">
              <a:rPr b="0" lang="ro-RO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2209680"/>
            <a:ext cx="77724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ccecff"/>
                </a:solidFill>
                <a:latin typeface="Arial"/>
              </a:rPr>
              <a:t>ALTE ROMANE  REALISTE INTERBELICE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438280" y="419076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ffffff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ro-RO" sz="1000" spc="-1" strike="noStrike">
                <a:solidFill>
                  <a:srgbClr val="ffffff"/>
                </a:solidFill>
                <a:latin typeface="Arial"/>
              </a:rPr>
              <a:t>clasa a X</a:t>
            </a: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Doina Ruşti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ccecff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ccecff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ccecff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ccecff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Liviu Rebreanu – Ion (1920): 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Glasul pământului şi Glasul iubirii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Liviu Rebreanu – Pădurea spânzuraţilor (1922):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Liviu Rebreanu – Răscoala (1932): surprinde psihologia colectivă într-un moment limită, în contextul evenimentului real de la 1907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Liviu Rebreanu – Gorila (1938):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Picture 11" descr="comp_i"/>
          <p:cNvPicPr/>
          <p:nvPr/>
        </p:nvPicPr>
        <p:blipFill>
          <a:blip r:embed="rId1">
            <a:alphaModFix amt="62000"/>
          </a:blip>
          <a:stretch/>
        </p:blipFill>
        <p:spPr>
          <a:xfrm>
            <a:off x="4876920" y="1447920"/>
            <a:ext cx="1439640" cy="143964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ffffff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ccecff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ccecff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Elev</cp:lastModifiedBy>
  <dcterms:modified xsi:type="dcterms:W3CDTF">2012-06-19T11:13:43Z</dcterms:modified>
  <cp:revision>30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